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178C-E623-4DB3-AA7A-114FFB50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909F-F19D-41C2-85C9-BD59B8658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A5D-5347-413A-B323-20C8DEA56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E7C-879C-4BB7-9B78-211B55064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20C-3C76-4058-82FF-347342B9C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A4F-8F6E-44BB-93F9-431351CFF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76A-9759-4094-B5C1-B5FB08E3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098F-6348-40A9-9B70-26CE36945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5ED7-06DF-47AD-8740-EFB16E4B0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663-3700-4611-8169-B3E924050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B1C0-7466-49D5-B68B-FFF403A9B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5AF-5600-4961-B43E-E437D9F57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FDC3-C81E-4F79-8808-52C890467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8630-9C92-4F40-A014-75F436DD4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16F5-FA7B-4A96-B7AA-F99C58608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C5A-7A54-492F-A67B-73447E3E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76B-8D20-40F7-8034-3373036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8C8-8E16-479C-8A84-6DA29A68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573-DE66-4239-8938-D91FCB50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363-C50C-4C2A-9DCB-FCD25DF3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46E1-6D33-4CCC-A571-F3E95AC4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3AF-D973-4B1E-B1CF-53D367F6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CEED-F9C6-4E23-9E4F-8D42A38A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BE6D-460F-4475-991C-B110FD78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16F5-497A-4E2A-B071-1D6F4C57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5C13-55FD-4325-B9F2-7A2BA517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95C-3F66-4D76-BF21-7405D014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E619-F9C7-4544-B134-A1C5E08C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DE3-F41A-4E6E-9DEB-F1FEDFBF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707-8B7B-473E-8516-E0399C6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F21F-0060-4109-B2FD-18BB144F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C3E9-6B03-4D70-B97D-16452C8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5A1A-75AA-4282-A8FD-00CB9EE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128D-10F9-41AC-9928-08A2720A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A8F3-B833-410F-95FA-B62C37E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568A-B266-482A-B552-5DFA4D19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130B-29C7-4F83-81F0-5E0C96B9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A88-10BD-485C-A29E-409087BC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8345-CEB6-425C-B916-CF366E5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80B5-A2F2-4582-A02C-5368295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A21A-2A6F-4114-9730-B1FBDC9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3790-8801-40DC-9955-78AD674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EAC8-807A-49A1-BEA5-0D2252F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D378-D2A7-4BA9-85ED-31007FC0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A6D0-79F6-48DC-A108-A832450C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8ACC4-BDA4-45B4-8453-589AA9D5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A7E6-686B-402B-84CA-D5F93F5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4B88-5060-4771-B7C7-80385270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D07-E1CA-4037-BAE5-3785C9D6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1E2D-1E3B-4B4B-B476-FD94C56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C9F4-4DAE-4820-8FE4-AD1EEDEE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E3B9-1AAC-4EDB-A2F7-94A58AC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39A3-E376-421E-BF7A-BF57B2E1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403C-0C3B-461D-BCEA-ECB70CD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5C06-DE7A-43F7-BEEE-379C16B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5037-4BAC-48CC-8E43-40C5BF73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9044-4469-46B0-A089-487D5DA0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DEAE8-0588-4FEF-9BA6-9790BB3C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3AD-78F4-4C65-A95E-DFF4A75A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B11-D1AE-46C4-A12F-ADBDBE1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435-9E24-4A55-B15D-9C401FA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76C-5AED-459A-92BE-282D6DB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36B-6B32-4EC8-84A7-79946D8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6389-3A94-4632-9D61-12A6296EF8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10B-925C-4C2F-BE84-B3C809346B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737C-BF06-4326-B472-0124C5CD636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AA0-D37F-4C41-8B08-14FC76BCA0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609480"/>
            <a:ext cx="79311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609480" y="37339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by Liyusew Ayalew &amp; Gezahegne Kebede (EIAR) (HARC) at the Inception meeting for the ‘Fodder and feed in livestock value chains in Ethiopia’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RI, Addis Ababa, 21-22 Februar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asal diet at large scale farm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F:\ILRI presentation (Liyusew)\Commercialization pics\HPIM0255.JPG"/>
          <p:cNvPicPr/>
          <p:nvPr/>
        </p:nvPicPr>
        <p:blipFill>
          <a:blip r:embed="rId1"/>
          <a:stretch/>
        </p:blipFill>
        <p:spPr>
          <a:xfrm>
            <a:off x="1676520" y="1935000"/>
            <a:ext cx="5790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Main production problems  and possible solutions for the input supply</a:t>
            </a:r>
            <a:br>
              <a:rPr sz="4400"/>
            </a:b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t small holder level(individuals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622520"/>
          <a:ext cx="8229600" cy="5381640"/>
        </p:xfrm>
        <a:graphic>
          <a:graphicData uri="http://schemas.openxmlformats.org/drawingml/2006/table">
            <a:tbl>
              <a:tblPr/>
              <a:tblGrid>
                <a:gridCol w="228600"/>
                <a:gridCol w="3809880"/>
                <a:gridCol w="419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bl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sible Sol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 f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eed pric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t less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milk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engthen of the linkage between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farm HHs to inputs and outputs marke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ther in buying selling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graz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nd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ay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ons l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engthen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backyar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forag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ice is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decided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y purchas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ce should be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egotiable and needs regular price monito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I, Vaccine and health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Strength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I and health service at PA   level and Regular professional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urce for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improved breed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i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und </a:t>
                      </a: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ighly expen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roved breed production should be encouraged on  private and government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50"/>
                </a:solidFill>
                <a:latin typeface="Calibri"/>
              </a:rPr>
              <a:t>Inputs or ser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Who supplies AI/natural mat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of the dairy producers are getting AI service from district ministry of agri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few are using natural mating from their own selected bu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ery few are using AI and natural mating from their Owen  farm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90720"/>
            <a:ext cx="8229600" cy="914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t">
            <a:normAutofit fontScale="22000"/>
          </a:bodyPr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Drags and vacci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Drags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-from private Animal drag sho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Vacci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from Government institute and private drags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60" indent="-59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81880" cy="838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Equipment and other inpu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mall holders –Uses from their Owen locally made equipments and purchased from local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dium and large scale farms-  From foreign and domestic mark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305920" cy="160020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What is the main possible solution for input supply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86000"/>
            <a:ext cx="8305920" cy="403848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ustainable system should be develop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o link input suppliers with produc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More attention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hould be given to the secto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solidFill>
            <a:srgbClr val="5ff3ca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45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Main marketing channels for smallholder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981080" y="1905120"/>
            <a:ext cx="221004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80880" y="3809880"/>
            <a:ext cx="182880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5ef0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57200" y="5562720"/>
            <a:ext cx="1676520" cy="609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971800"/>
            <a:ext cx="1676520" cy="6094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Roadside coll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 flipH="1">
            <a:off x="456480" y="4800600"/>
            <a:ext cx="167652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2971800" y="3809880"/>
            <a:ext cx="2057400" cy="609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 c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3124080" y="4724280"/>
            <a:ext cx="1828800" cy="7621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7"/>
          <p:cNvSpPr/>
          <p:nvPr/>
        </p:nvSpPr>
        <p:spPr>
          <a:xfrm>
            <a:off x="7315200" y="2666880"/>
            <a:ext cx="1447920" cy="762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ca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18"/>
          <p:cNvSpPr/>
          <p:nvPr/>
        </p:nvSpPr>
        <p:spPr>
          <a:xfrm>
            <a:off x="7162920" y="3733920"/>
            <a:ext cx="1600200" cy="990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cal market near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9"/>
          <p:cNvSpPr/>
          <p:nvPr/>
        </p:nvSpPr>
        <p:spPr>
          <a:xfrm>
            <a:off x="7238880" y="5029200"/>
            <a:ext cx="1600200" cy="1600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hole se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etai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24"/>
          <p:cNvSpPr/>
          <p:nvPr/>
        </p:nvSpPr>
        <p:spPr>
          <a:xfrm>
            <a:off x="5562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5562720" y="3886200"/>
            <a:ext cx="13716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5562720" y="4800600"/>
            <a:ext cx="121896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5562720" y="5715000"/>
            <a:ext cx="121896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own Arrow 28"/>
          <p:cNvSpPr/>
          <p:nvPr/>
        </p:nvSpPr>
        <p:spPr>
          <a:xfrm>
            <a:off x="1066680" y="3581280"/>
            <a:ext cx="1526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n Arrow 29"/>
          <p:cNvSpPr/>
          <p:nvPr/>
        </p:nvSpPr>
        <p:spPr>
          <a:xfrm>
            <a:off x="1066680" y="46483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n Arrow 30"/>
          <p:cNvSpPr/>
          <p:nvPr/>
        </p:nvSpPr>
        <p:spPr>
          <a:xfrm>
            <a:off x="1066680" y="52578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4"/>
          <p:cNvSpPr/>
          <p:nvPr/>
        </p:nvSpPr>
        <p:spPr>
          <a:xfrm>
            <a:off x="2209680" y="3352680"/>
            <a:ext cx="152640" cy="685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36"/>
          <p:cNvCxnSpPr/>
          <p:nvPr/>
        </p:nvCxnSpPr>
        <p:spPr>
          <a:xfrm flipV="1">
            <a:off x="2437200" y="4037760"/>
            <a:ext cx="252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2" name="Right Arrow 37"/>
          <p:cNvSpPr/>
          <p:nvPr/>
        </p:nvSpPr>
        <p:spPr>
          <a:xfrm>
            <a:off x="2362320" y="4114800"/>
            <a:ext cx="533160" cy="460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own Arrow 39"/>
          <p:cNvSpPr/>
          <p:nvPr/>
        </p:nvSpPr>
        <p:spPr>
          <a:xfrm>
            <a:off x="3962520" y="44197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42"/>
          <p:cNvSpPr/>
          <p:nvPr/>
        </p:nvSpPr>
        <p:spPr>
          <a:xfrm flipH="1">
            <a:off x="1218960" y="2286000"/>
            <a:ext cx="685800" cy="763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n Arrow 43"/>
          <p:cNvSpPr/>
          <p:nvPr/>
        </p:nvSpPr>
        <p:spPr>
          <a:xfrm>
            <a:off x="1219320" y="2438280"/>
            <a:ext cx="46080" cy="4572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own Arrow 44"/>
          <p:cNvSpPr/>
          <p:nvPr/>
        </p:nvSpPr>
        <p:spPr>
          <a:xfrm>
            <a:off x="3581280" y="2514600"/>
            <a:ext cx="76320" cy="12193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6"/>
          <p:cNvSpPr/>
          <p:nvPr/>
        </p:nvSpPr>
        <p:spPr>
          <a:xfrm flipV="1">
            <a:off x="4191120" y="2133720"/>
            <a:ext cx="3581280" cy="38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n Arrow 47"/>
          <p:cNvSpPr/>
          <p:nvPr/>
        </p:nvSpPr>
        <p:spPr>
          <a:xfrm flipH="1">
            <a:off x="6218280" y="22096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n Arrow 48"/>
          <p:cNvSpPr/>
          <p:nvPr/>
        </p:nvSpPr>
        <p:spPr>
          <a:xfrm>
            <a:off x="7772400" y="2209680"/>
            <a:ext cx="76320" cy="38124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own Arrow 49"/>
          <p:cNvSpPr/>
          <p:nvPr/>
        </p:nvSpPr>
        <p:spPr>
          <a:xfrm>
            <a:off x="6172200" y="350532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50"/>
          <p:cNvSpPr/>
          <p:nvPr/>
        </p:nvSpPr>
        <p:spPr>
          <a:xfrm>
            <a:off x="6172200" y="44956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51"/>
          <p:cNvSpPr/>
          <p:nvPr/>
        </p:nvSpPr>
        <p:spPr>
          <a:xfrm>
            <a:off x="6172200" y="5410080"/>
            <a:ext cx="7632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52"/>
          <p:cNvSpPr/>
          <p:nvPr/>
        </p:nvSpPr>
        <p:spPr>
          <a:xfrm>
            <a:off x="7772400" y="34290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55"/>
          <p:cNvSpPr/>
          <p:nvPr/>
        </p:nvSpPr>
        <p:spPr>
          <a:xfrm>
            <a:off x="5334120" y="259092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o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wn Arrow 56"/>
          <p:cNvSpPr/>
          <p:nvPr/>
        </p:nvSpPr>
        <p:spPr>
          <a:xfrm>
            <a:off x="6172200" y="2895480"/>
            <a:ext cx="7632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own Arrow 57"/>
          <p:cNvSpPr/>
          <p:nvPr/>
        </p:nvSpPr>
        <p:spPr>
          <a:xfrm>
            <a:off x="7924680" y="4724280"/>
            <a:ext cx="152640" cy="30492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40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in marketing channels for medium far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609480" y="1905120"/>
            <a:ext cx="1905120" cy="60948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2819520"/>
            <a:ext cx="1828800" cy="533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adside 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09480" y="3581280"/>
            <a:ext cx="190512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3520" y="4495680"/>
            <a:ext cx="198108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33520" y="5410080"/>
            <a:ext cx="198108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3886200" y="2209680"/>
            <a:ext cx="1600200" cy="609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886200" y="3124080"/>
            <a:ext cx="1600200" cy="533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3886200" y="2362320"/>
            <a:ext cx="1600200" cy="3682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el, 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11"/>
          <p:cNvSpPr/>
          <p:nvPr/>
        </p:nvSpPr>
        <p:spPr>
          <a:xfrm>
            <a:off x="2438280" y="228600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n Arrow 12"/>
          <p:cNvSpPr/>
          <p:nvPr/>
        </p:nvSpPr>
        <p:spPr>
          <a:xfrm>
            <a:off x="1447920" y="2362320"/>
            <a:ext cx="152280" cy="380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13"/>
          <p:cNvSpPr/>
          <p:nvPr/>
        </p:nvSpPr>
        <p:spPr>
          <a:xfrm flipH="1">
            <a:off x="1370880" y="3429000"/>
            <a:ext cx="15228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14"/>
          <p:cNvSpPr/>
          <p:nvPr/>
        </p:nvSpPr>
        <p:spPr>
          <a:xfrm>
            <a:off x="1219320" y="41148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15"/>
          <p:cNvSpPr/>
          <p:nvPr/>
        </p:nvSpPr>
        <p:spPr>
          <a:xfrm>
            <a:off x="1219320" y="50292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16"/>
          <p:cNvSpPr/>
          <p:nvPr/>
        </p:nvSpPr>
        <p:spPr>
          <a:xfrm>
            <a:off x="4495680" y="2895480"/>
            <a:ext cx="1526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009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cessing/marketing</a:t>
            </a:r>
            <a:br>
              <a:rPr sz="66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Main marketing channels for Large scakle far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560" y="1934640"/>
            <a:ext cx="88390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533520" y="2209680"/>
            <a:ext cx="198108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533520" y="3581280"/>
            <a:ext cx="190476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457200" y="5029200"/>
            <a:ext cx="2133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8"/>
          <p:cNvSpPr/>
          <p:nvPr/>
        </p:nvSpPr>
        <p:spPr>
          <a:xfrm>
            <a:off x="3200400" y="2133720"/>
            <a:ext cx="1905120" cy="5331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du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3200400" y="2895480"/>
            <a:ext cx="190512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oad side coll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3276720" y="3962520"/>
            <a:ext cx="1828800" cy="685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200400" y="5105520"/>
            <a:ext cx="1905120" cy="609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3200400" y="6095880"/>
            <a:ext cx="1905120" cy="4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14"/>
          <p:cNvSpPr/>
          <p:nvPr/>
        </p:nvSpPr>
        <p:spPr>
          <a:xfrm>
            <a:off x="5486400" y="2971800"/>
            <a:ext cx="1828800" cy="9144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ote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a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5562720" y="4419720"/>
            <a:ext cx="1828800" cy="761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own Arrow 24"/>
          <p:cNvSpPr/>
          <p:nvPr/>
        </p:nvSpPr>
        <p:spPr>
          <a:xfrm>
            <a:off x="1295280" y="31240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Down Arrow 25"/>
          <p:cNvSpPr/>
          <p:nvPr/>
        </p:nvSpPr>
        <p:spPr>
          <a:xfrm>
            <a:off x="1447920" y="4572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eft Arrow 26"/>
          <p:cNvSpPr/>
          <p:nvPr/>
        </p:nvSpPr>
        <p:spPr>
          <a:xfrm>
            <a:off x="2133720" y="2209680"/>
            <a:ext cx="1066680" cy="76320"/>
          </a:xfrm>
          <a:prstGeom prst="leftArrow">
            <a:avLst>
              <a:gd name="adj1" fmla="val 50000"/>
              <a:gd name="adj2" fmla="val 4988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own Arrow 27"/>
          <p:cNvSpPr/>
          <p:nvPr/>
        </p:nvSpPr>
        <p:spPr>
          <a:xfrm>
            <a:off x="4038480" y="2743200"/>
            <a:ext cx="48420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own Arrow 28"/>
          <p:cNvSpPr/>
          <p:nvPr/>
        </p:nvSpPr>
        <p:spPr>
          <a:xfrm>
            <a:off x="4038480" y="3581280"/>
            <a:ext cx="484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own Arrow 29"/>
          <p:cNvSpPr/>
          <p:nvPr/>
        </p:nvSpPr>
        <p:spPr>
          <a:xfrm>
            <a:off x="4038480" y="464832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own Arrow 30"/>
          <p:cNvSpPr/>
          <p:nvPr/>
        </p:nvSpPr>
        <p:spPr>
          <a:xfrm>
            <a:off x="4191120" y="571500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own Arrow 31"/>
          <p:cNvSpPr/>
          <p:nvPr/>
        </p:nvSpPr>
        <p:spPr>
          <a:xfrm>
            <a:off x="6172200" y="3962520"/>
            <a:ext cx="152280" cy="38088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ight Arrow 32"/>
          <p:cNvSpPr/>
          <p:nvPr/>
        </p:nvSpPr>
        <p:spPr>
          <a:xfrm>
            <a:off x="5105520" y="2362320"/>
            <a:ext cx="2971800" cy="75960"/>
          </a:xfrm>
          <a:prstGeom prst="rightArrow">
            <a:avLst>
              <a:gd name="adj1" fmla="val 50000"/>
              <a:gd name="adj2" fmla="val 5017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33"/>
          <p:cNvSpPr/>
          <p:nvPr/>
        </p:nvSpPr>
        <p:spPr>
          <a:xfrm>
            <a:off x="7620120" y="25146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ces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34"/>
          <p:cNvSpPr/>
          <p:nvPr/>
        </p:nvSpPr>
        <p:spPr>
          <a:xfrm>
            <a:off x="7772400" y="36576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uper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35"/>
          <p:cNvSpPr/>
          <p:nvPr/>
        </p:nvSpPr>
        <p:spPr>
          <a:xfrm>
            <a:off x="7620120" y="46483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own Arrow 37"/>
          <p:cNvSpPr/>
          <p:nvPr/>
        </p:nvSpPr>
        <p:spPr>
          <a:xfrm>
            <a:off x="6324480" y="2590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own Arrow 38"/>
          <p:cNvSpPr/>
          <p:nvPr/>
        </p:nvSpPr>
        <p:spPr>
          <a:xfrm>
            <a:off x="8153280" y="32767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own Arrow 39"/>
          <p:cNvSpPr/>
          <p:nvPr/>
        </p:nvSpPr>
        <p:spPr>
          <a:xfrm>
            <a:off x="8077320" y="434340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Who are the main market actors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752480"/>
          <a:ext cx="8229600" cy="4729320"/>
        </p:xfrm>
        <a:graphic>
          <a:graphicData uri="http://schemas.openxmlformats.org/drawingml/2006/table">
            <a:tbl>
              <a:tblPr/>
              <a:tblGrid>
                <a:gridCol w="2666880"/>
                <a:gridCol w="2819520"/>
                <a:gridCol w="2743200"/>
              </a:tblGrid>
              <a:tr h="66492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cc"/>
                          </a:solidFill>
                          <a:latin typeface="Constantia"/>
                        </a:rPr>
                        <a:t>At Small holder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t medium farm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b050"/>
                          </a:solidFill>
                          <a:latin typeface="Constantia"/>
                        </a:rPr>
                        <a:t>Large scale farm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7b6"/>
                    </a:solidFill>
                  </a:tcPr>
                </a:tc>
              </a:tr>
              <a:tr h="413820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ad side milk collection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operati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tels, caf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on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a roo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al HH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collection unions came and purchase at farm ga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centers such as Hotels, restaurants, kaf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ocessing companies came and purchase at the farm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lk processing companies came and purchase at the farm g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ice centers such as Hotels, restaurants, kar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About Holett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solidFill>
            <a:srgbClr val="b0dfa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ltitude: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2400 m above sea lev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atitud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:- 9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00</a:t>
            </a:r>
            <a:r>
              <a:rPr b="1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ongitude:- 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8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nstantia"/>
              </a:rPr>
              <a:t>o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0</a:t>
            </a:r>
            <a:r>
              <a:rPr b="1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Annual Rainfall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:- 1055 m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Farming system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Crop livestock farming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Location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-western side of Addis Abeba on the highway from Addis to Ambo roa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Distanc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from Addis Abeba –Around 38 k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What are the main problems associated with marketing and how might be solve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57200" y="2133720"/>
          <a:ext cx="8229600" cy="470052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n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w it might be solv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price of milk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ce should be negotiable also needs regular Price monit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12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 price of feed, drags, vacc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eds Government attention, strengthening partnerships  l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127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 shelf life of milk and milk 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eds training on means of extending shelf life of the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b050"/>
                </a:solidFill>
                <a:latin typeface="Constantia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Production aspects</a:t>
            </a:r>
            <a:br>
              <a:rPr sz="54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o are dairy producers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2362320"/>
          <a:ext cx="9144000" cy="4190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lding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&lt;5 x bree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iry cows and producing both crop and Livestock (Individu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bd0d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olding&gt;5 to 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x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bre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airy  cows mostly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fou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n and around urban  Area (Subsisten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bd0d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lding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&gt;10 x bree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iry cows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nly </a:t>
                      </a: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targeting profi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om dai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s (commerci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Breeds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320" y="1752480"/>
          <a:ext cx="9067680" cy="381024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7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cal breed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X breeds (50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breeds (50,75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&amp; above 75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breeds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(75 &amp; above 75%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isian cross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f0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Health stat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981080"/>
          <a:ext cx="9144000" cy="4816440"/>
        </p:xfrm>
        <a:graphic>
          <a:graphicData uri="http://schemas.openxmlformats.org/drawingml/2006/table">
            <a:tbl>
              <a:tblPr/>
              <a:tblGrid>
                <a:gridCol w="3218040"/>
                <a:gridCol w="3335040"/>
                <a:gridCol w="2590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mallholder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dium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scale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8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a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a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ath a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poising c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ompl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indn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t and mou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ath a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ves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t and mou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eding: 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mall holder</a:t>
            </a: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Feed type and its source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600200"/>
          <a:ext cx="8839080" cy="5583240"/>
        </p:xfrm>
        <a:graphic>
          <a:graphicData uri="http://schemas.openxmlformats.org/drawingml/2006/table">
            <a:tbl>
              <a:tblPr/>
              <a:tblGrid>
                <a:gridCol w="573120"/>
                <a:gridCol w="2619360"/>
                <a:gridCol w="2290680"/>
                <a:gridCol w="33559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azing, w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en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ra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ats 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unal grazing farm and 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 of his Farm land(kel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 of his Farm 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resi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wn for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  <a:tr h="274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upplement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ereal hal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t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en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proc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n proc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wen pla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rade g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e made local 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ck yarded improved fo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a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010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Medium Dairy Farm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eed type and its source……….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09480" y="1981080"/>
          <a:ext cx="8534520" cy="4694400"/>
        </p:xfrm>
        <a:graphic>
          <a:graphicData uri="http://schemas.openxmlformats.org/drawingml/2006/table">
            <a:tbl>
              <a:tblPr/>
              <a:tblGrid>
                <a:gridCol w="573120"/>
                <a:gridCol w="2551320"/>
                <a:gridCol w="1600200"/>
                <a:gridCol w="380988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resi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rround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  <a:tr h="268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Supplementary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il seed c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lse h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t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dible oil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n and lintel grinding mil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om home made local b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b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Large scale </a:t>
            </a: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 Farm 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ed type and its sourc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1905120"/>
          <a:ext cx="8915400" cy="6705360"/>
        </p:xfrm>
        <a:graphic>
          <a:graphicData uri="http://schemas.openxmlformats.org/drawingml/2006/table">
            <a:tbl>
              <a:tblPr/>
              <a:tblGrid>
                <a:gridCol w="380880"/>
                <a:gridCol w="2962440"/>
                <a:gridCol w="1830240"/>
                <a:gridCol w="374184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ypes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 it acmes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</a:tr>
              <a:tr h="64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sal di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pplementary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il seed c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 b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cent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lse h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la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ewery g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ch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lesa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dible oil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our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ed indust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n and lintel grinding m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taile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gar facto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r processing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3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Feed at medium dairy farm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F:\ILRI presentation (Liyusew)\Commercialization pics\HPIM0217.JPG"/>
          <p:cNvPicPr/>
          <p:nvPr/>
        </p:nvPicPr>
        <p:blipFill>
          <a:blip r:embed="rId1"/>
          <a:stretch/>
        </p:blipFill>
        <p:spPr>
          <a:xfrm>
            <a:off x="1676520" y="1935000"/>
            <a:ext cx="5790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06:44:56Z</dcterms:created>
  <dc:creator>User</dc:creator>
  <dc:description/>
  <dc:language>en-US</dc:language>
  <cp:lastModifiedBy>Kara Brown</cp:lastModifiedBy>
  <dcterms:modified xsi:type="dcterms:W3CDTF">2012-02-21T14:09:46Z</dcterms:modified>
  <cp:revision>166</cp:revision>
  <dc:subject/>
  <dc:title>Presentation focus Dairy cow feed and feeding aspects around welemera district (Holetta</dc:title>
</cp:coreProperties>
</file>